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44204-6D39-43A3-9B4C-1AA610872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8693C-92FF-416B-A832-D91899016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0CE85-03FB-499B-8310-79B7EC2CA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D3D51-C6F1-4314-BFBB-6F7FC040B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463E8-CE96-4200-95C6-0F8D5FCDB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A7724-A193-4C60-B475-523316CDC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A5AD7-BC54-4507-823F-26788CE3F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01409-F968-43A3-8B4B-715EA2002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CE7CE-89F9-4691-A8BC-55B93FCC4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0410-1911-4B34-8DBE-95A9EDBE8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BD6B-32C4-476D-91BF-2A5F9FB53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AD23-931C-49E3-8F88-9F4B6C3F5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79B4-038E-4550-BEC9-DADD924E1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rcurio</a:t>
            </a:r>
            <a:endParaRPr b="0" lang="en-US" sz="4400" spc="-1" strike="noStrike">
              <a:solidFill>
                <a:srgbClr val="000000"/>
              </a:solidFill>
              <a:latin typeface="Times New Roman"/>
            </a:endParaRPr>
          </a:p>
        </p:txBody>
      </p:sp>
      <p:sp>
        <p:nvSpPr>
          <p:cNvPr id="42" name=""/>
          <p:cNvSpPr/>
          <p:nvPr/>
        </p:nvSpPr>
        <p:spPr>
          <a:xfrm>
            <a:off x="762120" y="1962000"/>
            <a:ext cx="754380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Mercurio è il pianeta più interno del Sistema Solare. La sua orbita ha un semiasse maggiore di 0,387 unità astronomiche (1 U.A. = 149,6 milioni di km), un'eccentricità di 0,206 e un'inclinazione di circa 20° rispetto al piano dell'eclittica. Il Sole è così vicino al pianeta che un astronauta atterrato su Mercurio lo vedrebbe 2 volte e mezza più grande e 7 volte più luminoso che sulla Terra. Il moto orbitale di Mercurio ha rivelato una piccola discrepanza rispetto alle predizioni della meccanica newtoniana: come per gli altri pianeti, la direzione del perielio (il punto di maggiore vicinanza al Sole) varia lentamente nel tempo, ma la corrispondente velocità di </a:t>
            </a:r>
            <a:r>
              <a:rPr b="0" i="1" lang="it-IT" sz="1400" spc="-1" strike="noStrike">
                <a:solidFill>
                  <a:srgbClr val="000000"/>
                </a:solidFill>
                <a:latin typeface="Comic Sans MS"/>
              </a:rPr>
              <a:t>precessio</a:t>
            </a:r>
            <a:r>
              <a:rPr b="0" lang="it-IT" sz="1400" spc="-1" strike="noStrike">
                <a:solidFill>
                  <a:srgbClr val="000000"/>
                </a:solidFill>
                <a:latin typeface="Comic Sans MS"/>
              </a:rPr>
              <a:t>ne è più alta di 43 secondi d'arco per secolo rispetto a quanto la meccanica classica prevede come risultato dell'attrazione gravitazionale degli altri pianeti. Questa "precessione anomala", di entità minuscola (corrisponde a un giro completo in 3 milioni d'anni!), scoperta a seguito di osservazioni molto precise ottenute durante i transiti del pianeta davanti al disco solare, è stata spiegata in modo soddisfacente soltanto dalla teoria della gravitazione di Einstein (1a </a:t>
            </a:r>
            <a:r>
              <a:rPr b="0" i="1" lang="it-IT" sz="1400" spc="-1" strike="noStrike">
                <a:solidFill>
                  <a:srgbClr val="000000"/>
                </a:solidFill>
                <a:latin typeface="Comic Sans MS"/>
              </a:rPr>
              <a:t>relatività generale </a:t>
            </a:r>
            <a:r>
              <a:rPr b="0" lang="it-IT" sz="1400" spc="-1" strike="noStrike">
                <a:solidFill>
                  <a:srgbClr val="000000"/>
                </a:solidFill>
                <a:latin typeface="Comic Sans MS"/>
              </a:rPr>
              <a:t>del 1916).</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rano</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0720"/>
            <a:ext cx="7772400" cy="251460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scoperta di Urano e del tutto casuale e si deve a William Herschel il quale nel 1781, mentre stava osservando alcuni campi stellari con un piccolo telescopio di sua costruzione, si imbatte in questo nuovo oggetto celeste che fu dapprima classificato come una stella e poi correttamente identificato come un pianeta. A causa della grande distanza dal Sole, Urano riceve meno di 1/360 dell'energia solare che raggiunge la Terra. Per questa ragione la temperatura, sulla superficie visibile, e infe riore a -200°C. Quello che e apparso alla navicella Voyager 2 nel gennaio del 1986 era essenzialmente una sfera omogenea dalla tinta azzurrino-verdastra. L'atmosfera vera e propria del pianeta, con caratteristiche abbastanza simili a quelle degli altri pianeti giganti, e infatti nascosta da una densa cortina nebbiosa, formata prevalentemente di cristalli derivati dall'acetilene e di goccioline di idrocarburi. </a:t>
            </a:r>
            <a:endParaRPr b="0" lang="en-US" sz="1400" spc="-1" strike="noStrike">
              <a:solidFill>
                <a:srgbClr val="000000"/>
              </a:solidFill>
              <a:latin typeface="Times New Roman"/>
            </a:endParaRPr>
          </a:p>
          <a:p>
            <a:pPr marL="3430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luton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0720"/>
            <a:ext cx="7772400" cy="2667240"/>
          </a:xfrm>
          <a:prstGeom prst="rect">
            <a:avLst/>
          </a:prstGeom>
          <a:noFill/>
          <a:ln w="0">
            <a:noFill/>
          </a:ln>
        </p:spPr>
        <p:txBody>
          <a:bodyPr lIns="90000" rIns="90000" tIns="46800" bIns="46800" anchor="t">
            <a:normAutofit fontScale="99000"/>
          </a:bodyPr>
          <a:p>
            <a:pPr marL="339480" indent="-339480" algn="just">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 'orbita di Plutone e la più eccentrica, a differenza degli altri pianeti, la cui traiettoria attorno al Sole e quasi circolare. Questa forma allungata fa si che per un periodo relativamente breve di venti anni, il pianeta più lontano risulti essere Nettuno, come si e verificato dal1979 al 1999. Inoltre l'orbita di Plutone e molto inclinata rispetto al piano in cui si muovono gli altri pianeti. E cosi piccolo e distante che si possono fare soltanto delle ipotesi riguardo la sua composizione e la sua atmosfera. Le sue dimensioni ridotte non gli permettono di avere un guscio atmosferico troppo consistente. Probabilmente ha una densità che non supera il milionesimo di quella terrestre e soltanto quando si avvicina al punto più vicino al Sole (perielio), il cui calore sottrae un sottile strato di metano dalla superficie (sublimazione). Da alcune osservazioni dello spettro si e potuto dedurre che il pianeta e avvolto da uno strato di metano ghiacciato, al di sotto del quale dovrebbe esistere anche uno strato di acqua ghiacciata</a:t>
            </a:r>
            <a:endParaRPr b="0" lang="en-US" sz="1400" spc="-1" strike="noStrike">
              <a:solidFill>
                <a:srgbClr val="000000"/>
              </a:solidFill>
              <a:latin typeface="Times New Roman"/>
            </a:endParaRPr>
          </a:p>
          <a:p>
            <a:pPr marL="3394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rte</a:t>
            </a:r>
            <a:endParaRPr b="0" lang="en-US" sz="4400" spc="-1" strike="noStrike">
              <a:solidFill>
                <a:srgbClr val="000000"/>
              </a:solidFill>
              <a:latin typeface="Times New Roman"/>
            </a:endParaRPr>
          </a:p>
        </p:txBody>
      </p:sp>
      <p:sp>
        <p:nvSpPr>
          <p:cNvPr id="44" name="PlaceHolder 2"/>
          <p:cNvSpPr>
            <a:spLocks noGrp="1"/>
          </p:cNvSpPr>
          <p:nvPr>
            <p:ph/>
          </p:nvPr>
        </p:nvSpPr>
        <p:spPr>
          <a:xfrm>
            <a:off x="762120" y="1933560"/>
            <a:ext cx="7772400" cy="4114800"/>
          </a:xfrm>
          <a:prstGeom prst="rect">
            <a:avLst/>
          </a:prstGeom>
          <a:noFill/>
          <a:ln w="0">
            <a:noFill/>
          </a:ln>
        </p:spPr>
        <p:txBody>
          <a:bodyPr lIns="90000" rIns="90000" tIns="46800" bIns="46800" anchor="t">
            <a:normAutofit fontScale="97000"/>
          </a:bodyPr>
          <a:p>
            <a:pPr marL="3326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discesa su Marte delle due sonde automatiche Viking i e 2 rispettivamente il 20 luglio 1976 e il 4 settembre dello stesso anno rappresenta il punto di arrivo di studi e ricerche durati due secoli, Già nel 1784 Sir William Herschel, un famoso astronomo di quel tempo, sosteneva la presenza su Marte di forme evolute di vita.</a:t>
            </a:r>
            <a:endParaRPr b="0" lang="en-US" sz="1400" spc="-1" strike="noStrike">
              <a:solidFill>
                <a:srgbClr val="000000"/>
              </a:solidFill>
              <a:latin typeface="Times New Roman"/>
            </a:endParaRPr>
          </a:p>
          <a:p>
            <a:pPr marL="3326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endParaRPr b="0" lang="en-US" sz="1400" spc="-1" strike="noStrike">
              <a:solidFill>
                <a:srgbClr val="000000"/>
              </a:solidFill>
              <a:latin typeface="Times New Roman"/>
            </a:endParaRPr>
          </a:p>
          <a:p>
            <a:pPr marL="3326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osservazione da parte di Giovanni Schiaparelli di strutture lineari, chiamate canali ricoprenti la superficie marziana, e gli ulteriori studi di J.H. von Madler e P. Lowell diedero poi vita negli ultimi anni del secolo scorso a un nuovo periodo di accesi dibattiti sulla possibilità dell'esistenza o meno su Marte di forme di vita intelligenti.</a:t>
            </a:r>
            <a:endParaRPr b="0" lang="en-US" sz="1400" spc="-1" strike="noStrike">
              <a:solidFill>
                <a:srgbClr val="000000"/>
              </a:solidFill>
              <a:latin typeface="Times New Roman"/>
            </a:endParaRPr>
          </a:p>
          <a:p>
            <a:pPr marL="3326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nche le osservazioni astronomiche più recenti, indicativamente sino alla metà degli anni Sessanta, riportavano come punto fondamentale, oltre alle calotte polari, la presenza di strisce allungate di colore scuro (dette sempre &lt;&lt;canali&gt;&gt;) che si intersecavano formando delle macchie scure od oasi. Le aree più chiare o &lt;&lt;deserti", comprese all'interno di questo reticolo, venivano considerate come sabbie o polveri di composizione incerta, mentre le zone scure, dette talvolta anche "mari&gt;&gt;, erano attribuite, per il loro evolvere nel tempo, o all'esistenza di torme di vita primitiva, o alla presenza di rocce basaltiche ricoperte o ripulite in modo irregolare da tempeste di sabbia.</a:t>
            </a:r>
            <a:endParaRPr b="0" lang="en-US" sz="1400" spc="-1" strike="noStrike">
              <a:solidFill>
                <a:srgbClr val="000000"/>
              </a:solidFill>
              <a:latin typeface="Times New Roman"/>
            </a:endParaRPr>
          </a:p>
          <a:p>
            <a:pPr marL="3326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 modificare profondamente queste osservazioni hanno contribuito in modo fondamentale le sonde spaziali automatiche Mariner 4 (1964-65), Mariner 6 e 7 (1969), Mariner 9 (1971) e Viking 1</a:t>
            </a:r>
            <a:r>
              <a:rPr b="0" lang="it-IT" sz="1400" spc="-1" strike="noStrike">
                <a:solidFill>
                  <a:srgbClr val="ffffff"/>
                </a:solidFill>
                <a:latin typeface="Comic Sans MS"/>
              </a:rPr>
              <a:t> e 2, queste ultime in grado di tornire riprese e dati fino al 1979.</a:t>
            </a:r>
            <a:endParaRPr b="0" lang="en-US" sz="1400" spc="-1" strike="noStrike">
              <a:solidFill>
                <a:srgbClr val="000000"/>
              </a:solidFill>
              <a:latin typeface="Times New Roman"/>
            </a:endParaRPr>
          </a:p>
          <a:p>
            <a:pPr marL="3326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urno</a:t>
            </a:r>
            <a:endParaRPr b="0" lang="en-US" sz="4400" spc="-1" strike="noStrike">
              <a:solidFill>
                <a:srgbClr val="000000"/>
              </a:solidFill>
              <a:latin typeface="Times New Roman"/>
            </a:endParaRPr>
          </a:p>
        </p:txBody>
      </p:sp>
      <p:sp>
        <p:nvSpPr>
          <p:cNvPr id="46" name="PlaceHolder 2"/>
          <p:cNvSpPr>
            <a:spLocks noGrp="1"/>
          </p:cNvSpPr>
          <p:nvPr>
            <p:ph/>
          </p:nvPr>
        </p:nvSpPr>
        <p:spPr>
          <a:xfrm>
            <a:off x="762120" y="1980720"/>
            <a:ext cx="7772400" cy="2057400"/>
          </a:xfrm>
          <a:prstGeom prst="rect">
            <a:avLst/>
          </a:prstGeom>
          <a:noFill/>
          <a:ln w="0">
            <a:noFill/>
          </a:ln>
        </p:spPr>
        <p:txBody>
          <a:bodyPr lIns="90000" rIns="90000" tIns="46800" bIns="46800" anchor="t">
            <a:normAutofit fontScale="99000"/>
          </a:bodyPr>
          <a:p>
            <a:pPr marL="339480" indent="-339480" algn="just">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turno è il pianeta più lontano tra quelli noti agli astronomi dell'antichità e rappresenta un corpo celeste di particolare interesse per l'osservazione telescopica.</a:t>
            </a:r>
            <a:endParaRPr b="0" lang="en-US" sz="1400" spc="-1" strike="noStrike">
              <a:solidFill>
                <a:srgbClr val="000000"/>
              </a:solidFill>
              <a:latin typeface="Times New Roman"/>
            </a:endParaRPr>
          </a:p>
          <a:p>
            <a:pPr marL="339480" indent="-339480" algn="just">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imo tra i pianeti esterni all'orbita di Giove, appare molto simile a questo per la presenza di fasce e di bande, seppur meno marcate. Come ordine di grandezza, Saturno è il secondo pianeta del Sistema Solare, con un diametro 10 volte maggiore di quello terrestre. La sua caratteristica più appariscente è data dagli anelli concentrici, i quali orbitano attorno al pianeta muovendosi nel piano equatoriale. Composti di una miriade di frammenti, grandi fino ad alcune centinaia di metri, sono gli anelli meglio visibili nel Sistema Sola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tuno</a:t>
            </a:r>
            <a:endParaRPr b="0" lang="en-US" sz="4400" spc="-1" strike="noStrike">
              <a:solidFill>
                <a:srgbClr val="000000"/>
              </a:solidFill>
              <a:latin typeface="Times New Roman"/>
            </a:endParaRPr>
          </a:p>
        </p:txBody>
      </p:sp>
      <p:sp>
        <p:nvSpPr>
          <p:cNvPr id="48" name="PlaceHolder 2"/>
          <p:cNvSpPr>
            <a:spLocks noGrp="1"/>
          </p:cNvSpPr>
          <p:nvPr>
            <p:ph/>
          </p:nvPr>
        </p:nvSpPr>
        <p:spPr>
          <a:xfrm>
            <a:off x="609480" y="1761840"/>
            <a:ext cx="7772400" cy="3809880"/>
          </a:xfrm>
          <a:prstGeom prst="rect">
            <a:avLst/>
          </a:prstGeom>
          <a:noFill/>
          <a:ln w="0">
            <a:noFill/>
          </a:ln>
        </p:spPr>
        <p:txBody>
          <a:bodyPr lIns="90000" rIns="90000" tIns="46800" bIns="46800" anchor="t">
            <a:normAutofit/>
          </a:bodyPr>
          <a:p>
            <a:pPr marL="343080" indent="-343080" algn="just">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ottavo pianeta del sistema solare e leggermente più piccolo di Urano e impiega quasi 165 anni per compiere un'orbita completa attorno al Sole. Presenta un'alternanza delle stagioni del tutto simile a quella che avviene sulla Terra, ma con una differenza: ogni stagione dura circa 41 anni. E' cosi lontano che i segnali radio, che si muovono alla velocità della luce, provenienti dalla sonda Voyager 2 (sfioro il pianeta nell'agosto del 1989), impiegarono quattro ore per raggiungere la Terra. La superficie dell'emisfero Sud appare nebulosa, con dei cerchi luminosi attorno al polo e strisce chiare variamente colorate nei toni del blu. Alcune macchie scure fanno capolino un po' su tutta la superficie: la più estesa (30.000 chilometri di diametro circa) e stata osservata nell'emisfero meridionale ed è stato calcolato che fosse grande quanto la Terra. Non è una turbolenza come la Grande Macchia Rossa di Giove, ma un buco nelle nubi, intorno al quale si creano e cambiano continuamente forma i cirri fatti di metano congelato. A sud di essa c'è una formazione nuvolosa molto chiara chiamata Scooter a causa dei suoi rapidi spostamenti in superficie, che potrebbe essere una specie di pennacchio di acido solfidrico esalato da uno strato nuvoloso più basso. Nettuno riceve dall'irraggiamento solare un'energia pari a 1/10 di quella ricevuta da Giove: troppo poco per mantenere un'atmosfera cosi dinamica. Ecco perché si ritiene che i movimenti degli strati alti gassosi siano alimentati soprattutto dall'energia termica che si sprigiona dalla struttura intern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n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a:bodyPr>
          <a:p>
            <a:pPr marL="343080" indent="-343080" algn="just">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l sistema costituito dalla Terra e dalla Luna può apparire, a un osservatore posto nello spazio, simile più a un pianeta doppio che a un pianeta con un solo satellite. Infatti, anche se altri pianeti del Sistema Solare sono dotati di satelliti, questi ultimi hanno solitamente dimensioni estremamente ridotte se confrontate con quelle del loro pianeta. Questo però non avviene nel caso della Luna: intatti, con un volume pari a 1/50 di quello terrestre e una massa pari a 1/81 della Terra, essa presenta valori relativi superiori a quelli degli altri satelliti del Sistema Solare quando vengono confrontati coi rispettivi pianeti, e a questi dati si aggiunga il fatto che il diametro della Terra è solo circa quattro volte superiore a quello lunare.</a:t>
            </a:r>
            <a:endParaRPr b="0" lang="en-US" sz="1400" spc="-1" strike="noStrike">
              <a:solidFill>
                <a:srgbClr val="000000"/>
              </a:solidFill>
              <a:latin typeface="Times New Roman"/>
            </a:endParaRPr>
          </a:p>
          <a:p>
            <a:pPr marL="343080" indent="-343080" algn="just">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lgrado queste caratteristiche e la relativa vicinanza dei due corpi celesti (384 000 km), il carattere dinamico della Terra e della sua storia geologica contrasta fortemente con il quadro del suo satellite quale risulta sia all'analisi telescopica che all'esplorazione spaziale condotta direttamente sul pos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atteristiche della Luna</a:t>
            </a:r>
            <a:br>
              <a:rPr sz="4400"/>
            </a:br>
            <a:endParaRPr b="0" lang="en-US" sz="4400" spc="-1" strike="noStrike">
              <a:solidFill>
                <a:srgbClr val="000000"/>
              </a:solidFill>
              <a:latin typeface="Times New Roman"/>
            </a:endParaRPr>
          </a:p>
        </p:txBody>
      </p:sp>
      <p:graphicFrame>
        <p:nvGraphicFramePr>
          <p:cNvPr id="52" name=""/>
          <p:cNvGraphicFramePr/>
          <p:nvPr/>
        </p:nvGraphicFramePr>
        <p:xfrm>
          <a:off x="1523880" y="1752480"/>
          <a:ext cx="6096240" cy="3894120"/>
        </p:xfrm>
        <a:graphic>
          <a:graphicData uri="http://schemas.openxmlformats.org/drawingml/2006/table">
            <a:tbl>
              <a:tblPr/>
              <a:tblGrid>
                <a:gridCol w="3048120"/>
                <a:gridCol w="3048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stanza media dalla Terr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84.000 k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stanza minima dalla Terr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56.000 k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stanza massima dalla Terr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06.000 k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clinazione dell'orbit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 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aggio medi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38 k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nsità medi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34 g/cm</a:t>
                      </a:r>
                      <a:r>
                        <a:rPr b="0" lang="en-US" sz="1400" spc="-1" strike="noStrike" baseline="30000">
                          <a:solidFill>
                            <a:srgbClr val="000000"/>
                          </a:solidFill>
                          <a:latin typeface="Comic Sans MS"/>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Volu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X10</a:t>
                      </a:r>
                      <a:r>
                        <a:rPr b="0" lang="en-US" sz="1400" spc="-1" strike="noStrike" baseline="30000">
                          <a:solidFill>
                            <a:srgbClr val="000000"/>
                          </a:solidFill>
                          <a:latin typeface="Comic Sans MS"/>
                        </a:rPr>
                        <a:t>10</a:t>
                      </a:r>
                      <a:r>
                        <a:rPr b="0" lang="en-US" sz="1400" spc="-1" strike="noStrike">
                          <a:solidFill>
                            <a:srgbClr val="000000"/>
                          </a:solidFill>
                          <a:latin typeface="Comic Sans MS"/>
                        </a:rPr>
                        <a:t>km</a:t>
                      </a:r>
                      <a:r>
                        <a:rPr b="0" lang="en-US" sz="1400" spc="-1" strike="noStrike" baseline="30000">
                          <a:solidFill>
                            <a:srgbClr val="000000"/>
                          </a:solidFill>
                          <a:latin typeface="Comic Sans MS"/>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mperatura superficie minim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1°C (equatore)</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3°C (po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mperatura superficie massim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17°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iodo di rotazione assia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7,3 giorn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iodo di rivoluzione sidera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7,3 giorn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iodo di rivoluzione sinodic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9,5 giorn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tella Sole</a:t>
            </a:r>
            <a:endParaRPr b="0" lang="en-US" sz="4400" spc="-1" strike="noStrike">
              <a:solidFill>
                <a:srgbClr val="000000"/>
              </a:solidFill>
              <a:latin typeface="Times New Roman"/>
            </a:endParaRPr>
          </a:p>
        </p:txBody>
      </p:sp>
      <p:sp>
        <p:nvSpPr>
          <p:cNvPr id="54"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Sole emette luce visibile, cioè una forma di radiazione elettromagnetica a cui i nostri occhi sono sensibili, ma anche radiazioni infrarosse ed ultraviolette, invisibili all'occhio, ma che non di rado rileviamo sulla pelle (dopo un'esposizione eccessiva!). Tale varietà di radiazioni e, soprattutto, la loro intensità, ci fanno intuire che il Sole è una </a:t>
            </a:r>
            <a:r>
              <a:rPr b="0" i="1" lang="it-IT" sz="1400" spc="-1" strike="noStrike">
                <a:solidFill>
                  <a:srgbClr val="000000"/>
                </a:solidFill>
                <a:latin typeface="Comic Sans MS"/>
              </a:rPr>
              <a:t>stella, </a:t>
            </a:r>
            <a:r>
              <a:rPr b="0" lang="it-IT" sz="1400" spc="-1" strike="noStrike">
                <a:solidFill>
                  <a:srgbClr val="000000"/>
                </a:solidFill>
                <a:latin typeface="Comic Sans MS"/>
              </a:rPr>
              <a:t>ossia un corpo celeste dotato di una intensa sorgente interna di energia e non un pianeta come la Terra, che si limita a rifletterne la luce. A questa conclusione era giunto già un filosofo greco più di duemila anni fa. Infatti, Anassagora di Clazomene, vissuto dal </a:t>
            </a:r>
            <a:r>
              <a:rPr b="0" i="1" lang="it-IT" sz="1400" spc="-1" strike="noStrike">
                <a:solidFill>
                  <a:srgbClr val="000000"/>
                </a:solidFill>
                <a:latin typeface="Comic Sans MS"/>
              </a:rPr>
              <a:t>500 </a:t>
            </a:r>
            <a:r>
              <a:rPr b="0" lang="it-IT" sz="1400" spc="-1" strike="noStrike">
                <a:solidFill>
                  <a:srgbClr val="000000"/>
                </a:solidFill>
                <a:latin typeface="Comic Sans MS"/>
              </a:rPr>
              <a:t>al 428 a.C., affermava che il Sole era una massa infuocata, mentre la Luna era una pietra che brillava della luce solare riflessa. Il Sole appartiene ad un sistema stellare formato da circa 200 miliardi di stelle, che prende il nome di Galassia. La maggior parte delle stelle è concentrata in una regione di spazio a forma di disco disegnato dai bracci che si dipartono a spirale da un nucleo centrale. Il </a:t>
            </a:r>
            <a:r>
              <a:rPr b="0" i="1" lang="it-IT" sz="1400" spc="-1" strike="noStrike">
                <a:solidFill>
                  <a:srgbClr val="000000"/>
                </a:solidFill>
                <a:latin typeface="Comic Sans MS"/>
              </a:rPr>
              <a:t>disco </a:t>
            </a:r>
            <a:r>
              <a:rPr b="0" lang="it-IT" sz="1400" spc="-1" strike="noStrike">
                <a:solidFill>
                  <a:srgbClr val="000000"/>
                </a:solidFill>
                <a:latin typeface="Comic Sans MS"/>
              </a:rPr>
              <a:t>ha un raggio di circa 40 mila anni luce ed il Sole occupa una posizione periferica, a circa 27 mila anni luce dal centro, intorno al quale ruota con una velocità di circa 225 krn/s. Compie quindi una rivoluzione completa in 200-250 milioni di anni (=1 anno cosmico). Poiché si ammette oggi che l'età del Sole è di circa 5 miliardi di anni, ciò significa che ha compiuto sino ad ora poco più di 22 rivoluzioni galattiche. A differenza della maggior parte delle stelle della Via Lattea, che frequentemente appartengono a sistemi binari o multipli, la nostra è una stella singola. Il Sole è la stella centrale del nostro sistema planetario ed intorno ad esso ruotano i nove pianeti conosciuti, a distanze comprese tra 46 milioni di km (Mercurio) e 7,4 miliardi di km (Plutone). La distanza media Terra-Sole è invece pari a 149,6 milioni di km ed è detta unita </a:t>
            </a:r>
            <a:r>
              <a:rPr b="0" i="1" lang="it-IT" sz="1400" spc="-1" strike="noStrike">
                <a:solidFill>
                  <a:srgbClr val="000000"/>
                </a:solidFill>
                <a:latin typeface="Comic Sans MS"/>
              </a:rPr>
              <a:t>astronomica, </a:t>
            </a:r>
            <a:r>
              <a:rPr b="0" lang="it-IT" sz="1400" spc="-1" strike="noStrike">
                <a:solidFill>
                  <a:srgbClr val="000000"/>
                </a:solidFill>
                <a:latin typeface="Comic Sans MS"/>
              </a:rPr>
              <a:t>in simbolo U.A.</a:t>
            </a:r>
            <a:endParaRPr b="0" lang="en-US" sz="1400" spc="-1" strike="noStrike">
              <a:solidFill>
                <a:srgbClr val="000000"/>
              </a:solidFill>
              <a:latin typeface="Times New Roman"/>
            </a:endParaRPr>
          </a:p>
          <a:p>
            <a:pPr marL="3258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ner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Venere è rimasto un pianeta assai misterioso fino all'avvento delle sonde spaziali, soprattutto perchè la sua superficie è completamente coperta da uno strato opaco e praticamente uniforme di nubi. L'atmosfera è risultata composta quasi totalmente (96%) di anidride carbonica (C02), con il resto formato per lo più di azoto, ed è talmente massiccia da dar luogo, in superficie, a una pressione pari a circa 90 volte quella dell'atmosfera terrestre (una pressione analoga si ha sulla Terra sott'acqua a circa 1 km di profondità).La grande abbondanza di C02 causa un forte </a:t>
            </a:r>
            <a:r>
              <a:rPr b="0" i="1" lang="it-IT" sz="1400" spc="-1" strike="noStrike">
                <a:solidFill>
                  <a:srgbClr val="000000"/>
                </a:solidFill>
                <a:latin typeface="Comic Sans MS"/>
              </a:rPr>
              <a:t>effetto serra, </a:t>
            </a:r>
            <a:r>
              <a:rPr b="0" lang="it-IT" sz="1400" spc="-1" strike="noStrike">
                <a:solidFill>
                  <a:srgbClr val="000000"/>
                </a:solidFill>
                <a:latin typeface="Comic Sans MS"/>
              </a:rPr>
              <a:t>che intrappola l'energia termica proveniente dall'illuminazione solare negli strati atmosferici prossimi alla superficie, dove la temperatura raggiunge i 480° C. Le nubi di Venere sono formate da goccioline di acido solforico e sono disposte in alta quota, tra i 58 e i 48 Km sopra la superfici ; occasionalmente in atmosfera si verificano potenti scariche elettriche. Le nubi hanno un aspetto meno uniforme se osservate all'ultravioletto : ciò ha permesso di determinare un sistema di venti globale di alta quota che le fa girare intorno al pianeta in un periodo di 4 giorni.</a:t>
            </a:r>
            <a:endParaRPr b="0" lang="en-US" sz="1400" spc="-1" strike="noStrike">
              <a:solidFill>
                <a:srgbClr val="000000"/>
              </a:solidFill>
              <a:latin typeface="Times New Roman"/>
            </a:endParaRPr>
          </a:p>
          <a:p>
            <a:pPr marL="322200" indent="-322200" algn="just">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tmosfera di Venere conterrebbe un quantitativo di argo 100 volte superiore a quello della Terra e 10000 volte quello di Marte, ciò porterebbe a sovvertire la teoria sulla formazione del Sistema Solare e a concludere che i pianeti hanno avuto una diversa origine. A una quota di circa 80Km dalla superfici del pianeta è risultato inoltre che la temperatura dell'atmosfera è più elevata nelle zone polari (-40°C) che in quelle equatoriali (-80°C) : poiché lo spessore delle nubi ai poli è di circa 2 Km superiore a quello dell'equatore, si è ipotizzata la presenza di correnti più ascenzionali ai poli e di correnti fredde discendenti all'equatore</a:t>
            </a:r>
            <a:endParaRPr b="0" lang="en-US" sz="1400" spc="-1" strike="noStrike">
              <a:solidFill>
                <a:srgbClr val="000000"/>
              </a:solidFill>
              <a:latin typeface="Times New Roman"/>
            </a:endParaRPr>
          </a:p>
          <a:p>
            <a:pPr marL="32220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ov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752120"/>
            <a:ext cx="7772400" cy="3886200"/>
          </a:xfrm>
          <a:prstGeom prst="rect">
            <a:avLst/>
          </a:prstGeom>
          <a:noFill/>
          <a:ln w="0">
            <a:noFill/>
          </a:ln>
        </p:spPr>
        <p:txBody>
          <a:bodyPr lIns="90000" rIns="90000" tIns="46800" bIns="46800" anchor="t">
            <a:normAutofit/>
          </a:bodyPr>
          <a:p>
            <a:pPr marL="343080" indent="-343080" algn="just">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Giove è il più grande pianeta del Sistema Solare: il suo diametro equatoriale è infatti circa 12 volte quello terrestre e, da solo, racchiude più materia di tutti gli altri pianeti, satelliti, asteroidi, polveri e gas presenti nel Sistema Solare stesso, dove è, per importanza, secondo solamente al Sole; la sua gravità influenza le orbite degli altri pianeti e molte comete provenienti dagli spazi esterni sono deviate dalle loro orbite proprio a causa sua. All'indagine telescopica le caratteristiche più evidenti di Giove sono offerte da un sistema di fasce parallele alternativamente chiare e scure che solcano il suo disco e da una gigantesca macchia rossa di forma ovale, lunga 50 000 km e larga 10 000, osservata per la prima volta nel 1664 dall'astronomo R. Hook e descritta nel 1665 da G.D. Cassini come "l'occhio di Giove".</a:t>
            </a:r>
            <a:endParaRPr b="0" lang="en-US" sz="1400" spc="-1" strike="noStrike">
              <a:solidFill>
                <a:srgbClr val="000000"/>
              </a:solidFill>
              <a:latin typeface="Times New Roman"/>
            </a:endParaRPr>
          </a:p>
          <a:p>
            <a:pPr marL="343080" indent="-343080" algn="just">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ia le fasce che la macchia sono il risultato visibile di intensi fenomeni che perturbano la densa atmosfera di Giove, come è stato ampiamente dimostrato dalle immagini ottenute con le sonde spaziali.</a:t>
            </a:r>
            <a:endParaRPr b="0" lang="en-US" sz="1400" spc="-1" strike="noStrike">
              <a:solidFill>
                <a:srgbClr val="000000"/>
              </a:solidFill>
              <a:latin typeface="Times New Roman"/>
            </a:endParaRPr>
          </a:p>
          <a:p>
            <a:pPr marL="343080" indent="-343080" algn="just">
              <a:lnSpc>
                <a:spcPct val="9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Giove ha 16 satelliti, insieme ai quali esso forma un vero e proprio Sistema Solare in miniatura. Per le sue caratteristiche di unicità e considerando le limitazioni di cui le osservazioni telescopiche dalla Terra soffrono a causa della presenza dell'atmosfera che assorbe in modo selettivo certe lunghezze d'onda dello spettro elettromagnetico, anche Giove è stato oggetto di missioni spaziali con l'utilizzazione di sonde automatiche: il Pioneer 10 e Pioneer li nel 1972-73 e Voyager 1 e 2 nel 197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7T11:21:20Z</dcterms:created>
  <dc:creator>Nicola Ferrini</dc:creator>
  <dc:description/>
  <dc:language>en-US</dc:language>
  <cp:lastModifiedBy>Administrator</cp:lastModifiedBy>
  <dcterms:modified xsi:type="dcterms:W3CDTF">2003-05-17T16:20:03Z</dcterms:modified>
  <cp:revision>8</cp:revision>
  <dc:subject/>
  <dc:title>Mercurio</dc:title>
</cp:coreProperties>
</file>