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4184-0384-4C34-A183-C7086106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DB6F-8FE4-4112-B929-29427695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C102-B4A7-452E-83F6-FFCA15C7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BA4C-D175-435D-957B-278D04C0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BC8B-691E-4D3C-B5D1-2D5DDA12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5A1D-0DD5-4B6B-BE66-DBCD5F17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9374-0322-4B9F-A74C-6259ED31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E297-B20C-4644-A7A4-53DE1D09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2193-DB8D-492A-8213-45592C93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B67F-8CE9-4299-A7F1-CD3208AD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6065-7816-4BE9-B888-80094251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FA36-405B-4AC3-9F66-A56AA113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71F8-71D4-434A-B4E0-0F0FBF579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strofili.org/astroemag" TargetMode="External"/><Relationship Id="rId3" Type="http://schemas.openxmlformats.org/officeDocument/2006/relationships/hyperlink" Target="http://astrofili.org/astroemag" TargetMode="External"/><Relationship Id="rId4" Type="http://schemas.openxmlformats.org/officeDocument/2006/relationships/hyperlink" Target="http://astrofili.org/astroemag" TargetMode="External"/><Relationship Id="rId5" Type="http://schemas.openxmlformats.org/officeDocument/2006/relationships/hyperlink" Target="http://astrofili.org/astroemag" TargetMode="External"/><Relationship Id="rId6" Type="http://schemas.openxmlformats.org/officeDocument/2006/relationships/hyperlink" Target="http://astrofili.org/astroemag" TargetMode="External"/><Relationship Id="rId7" Type="http://schemas.openxmlformats.org/officeDocument/2006/relationships/hyperlink" Target="http://astrofili.org/astroemag" TargetMode="External"/><Relationship Id="rId8" Type="http://schemas.openxmlformats.org/officeDocument/2006/relationships/hyperlink" Target="http://astroemag.freeweb.org/" TargetMode="External"/><Relationship Id="rId9" Type="http://schemas.openxmlformats.org/officeDocument/2006/relationships/hyperlink" Target="http://astroemag.freeweb.org/" TargetMode="External"/><Relationship Id="rId10" Type="http://schemas.openxmlformats.org/officeDocument/2006/relationships/hyperlink" Target="http://astroemag.freeweb.org/" TargetMode="External"/><Relationship Id="rId11" Type="http://schemas.openxmlformats.org/officeDocument/2006/relationships/hyperlink" Target="http://astroemag.freeweb.org/" TargetMode="External"/><Relationship Id="rId12" Type="http://schemas.openxmlformats.org/officeDocument/2006/relationships/hyperlink" Target="http://astroemag.freeweb.org/" TargetMode="External"/><Relationship Id="rId13" Type="http://schemas.openxmlformats.org/officeDocument/2006/relationships/hyperlink" Target="http://astroemag.freeweb.org/" TargetMode="External"/><Relationship Id="rId14" Type="http://schemas.openxmlformats.org/officeDocument/2006/relationships/hyperlink" Target="http://web.tiscali.it/astronomiathome/" TargetMode="External"/><Relationship Id="rId15" Type="http://schemas.openxmlformats.org/officeDocument/2006/relationships/hyperlink" Target="http://web.tiscali.it/astronomiathome/" TargetMode="External"/><Relationship Id="rId16" Type="http://schemas.openxmlformats.org/officeDocument/2006/relationships/hyperlink" Target="http://web.tiscali.it/astronomiathome/" TargetMode="External"/><Relationship Id="rId17" Type="http://schemas.openxmlformats.org/officeDocument/2006/relationships/hyperlink" Target="http://web.tiscali.it/astronomiathome/" TargetMode="External"/><Relationship Id="rId18" Type="http://schemas.openxmlformats.org/officeDocument/2006/relationships/hyperlink" Target="http://web.tiscali.it/astronomiathome/" TargetMode="External"/><Relationship Id="rId19" Type="http://schemas.openxmlformats.org/officeDocument/2006/relationships/hyperlink" Target="http://web.tiscali.it/astronomiathome/" TargetMode="External"/><Relationship Id="rId20" Type="http://schemas.openxmlformats.org/officeDocument/2006/relationships/hyperlink" Target="http://web.tiscali.it/astronomiathome/" TargetMode="External"/><Relationship Id="rId21" Type="http://schemas.openxmlformats.org/officeDocument/2006/relationships/hyperlink" Target="http://www.geocities.com/CapeCanaveral/Launchpad/2926/netscape.htm" TargetMode="External"/><Relationship Id="rId22" Type="http://schemas.openxmlformats.org/officeDocument/2006/relationships/hyperlink" Target="http://www.geocities.com/CapeCanaveral/Launchpad/2926/netscape.htm" TargetMode="External"/><Relationship Id="rId23" Type="http://schemas.openxmlformats.org/officeDocument/2006/relationships/hyperlink" Target="http://www.geocities.com/CapeCanaveral/Launchpad/2926/netscape.htm" TargetMode="External"/><Relationship Id="rId24" Type="http://schemas.openxmlformats.org/officeDocument/2006/relationships/hyperlink" Target="http://www.geocities.com/CapeCanaveral/Launchpad/2926/netscape.htm" TargetMode="External"/><Relationship Id="rId25" Type="http://schemas.openxmlformats.org/officeDocument/2006/relationships/hyperlink" Target="http://www.geocities.com/CapeCanaveral/Launchpad/2926/netscape.htm" TargetMode="External"/><Relationship Id="rId26" Type="http://schemas.openxmlformats.org/officeDocument/2006/relationships/hyperlink" Target="http://www.geocities.com/CapeCanaveral/Launchpad/2926/netscape.htm" TargetMode="External"/><Relationship Id="rId27" Type="http://schemas.openxmlformats.org/officeDocument/2006/relationships/hyperlink" Target="http://www.geocities.com/CapeCanaveral/Launchpad/2926/netscape.htm" TargetMode="External"/><Relationship Id="rId28" Type="http://schemas.openxmlformats.org/officeDocument/2006/relationships/hyperlink" Target="http://www.geocities.com/CapeCanaveral/Launchpad/2926/netscape.htm" TargetMode="External"/><Relationship Id="rId29" Type="http://schemas.openxmlformats.org/officeDocument/2006/relationships/hyperlink" Target="http://www.geocities.com/CapeCanaveral/Launchpad/2926/netscape.htm" TargetMode="External"/><Relationship Id="rId30" Type="http://schemas.openxmlformats.org/officeDocument/2006/relationships/hyperlink" Target="http://www.geocities.com/CapeCanaveral/Launchpad/2926/netscape.htm" TargetMode="External"/><Relationship Id="rId31" Type="http://schemas.openxmlformats.org/officeDocument/2006/relationships/image" Target="../media/image3.png"/><Relationship Id="rId3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ggio medio dei Piane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80880" y="1981080"/>
          <a:ext cx="8534520" cy="464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981080"/>
                    <a:ext cx="85345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36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33200" y="1219320"/>
            <a:ext cx="9010440" cy="5257440"/>
            <a:chOff x="133200" y="1219320"/>
            <a:chExt cx="9010440" cy="5257440"/>
          </a:xfrm>
        </p:grpSpPr>
        <p:sp>
          <p:nvSpPr>
            <p:cNvPr id="46" name=""/>
            <p:cNvSpPr/>
            <p:nvPr/>
          </p:nvSpPr>
          <p:spPr>
            <a:xfrm>
              <a:off x="133200" y="1219320"/>
              <a:ext cx="144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No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73920" y="1219320"/>
              <a:ext cx="5045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Indirizz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619320" y="1219320"/>
              <a:ext cx="2524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Descrizi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3200" y="1646280"/>
              <a:ext cx="1440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73920" y="1646280"/>
              <a:ext cx="5045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619320" y="1646280"/>
              <a:ext cx="2524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3200" y="1846800"/>
              <a:ext cx="1440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73920" y="1846800"/>
              <a:ext cx="5045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619320" y="1846800"/>
              <a:ext cx="2524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3200" y="2047680"/>
              <a:ext cx="1440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Comic Sans MS"/>
                </a:rPr>
                <a:t>AstroEmagaz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73920" y="2047680"/>
              <a:ext cx="504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r>
                <a:rPr b="0" lang="it-IT" sz="1400" spc="-1" strike="noStrike" u="sng">
                  <a:solidFill>
                    <a:srgbClr val="ccccff"/>
                  </a:solidFill>
                  <a:uFillTx/>
                  <a:latin typeface="Comic Sans MS"/>
                  <a:hlinkClick r:id="rId2"/>
                </a:rPr>
                <a:t>http://</a:t>
              </a:r>
              <a:r>
                <a:rPr b="0" lang="it-IT" sz="1400" spc="-1" strike="noStrike" u="sng">
                  <a:solidFill>
                    <a:srgbClr val="ccccff"/>
                  </a:solidFill>
                  <a:uFillTx/>
                  <a:latin typeface="Comic Sans MS"/>
                  <a:hlinkClick r:id="rId3"/>
                </a:rPr>
                <a:t>astrofili</a:t>
              </a:r>
              <a:r>
                <a:rPr b="0" lang="it-IT" sz="1400" spc="-1" strike="noStrike" u="sng">
                  <a:solidFill>
                    <a:srgbClr val="ccccff"/>
                  </a:solidFill>
                  <a:uFillTx/>
                  <a:latin typeface="Comic Sans MS"/>
                  <a:hlinkClick r:id="rId4"/>
                </a:rPr>
                <a:t>.</a:t>
              </a:r>
              <a:r>
                <a:rPr b="0" lang="it-IT" sz="1400" spc="-1" strike="noStrike" u="sng">
                  <a:solidFill>
                    <a:srgbClr val="ccccff"/>
                  </a:solidFill>
                  <a:uFillTx/>
                  <a:latin typeface="Comic Sans MS"/>
                  <a:hlinkClick r:id="rId5"/>
                </a:rPr>
                <a:t>org</a:t>
              </a:r>
              <a:r>
                <a:rPr b="0" lang="it-IT" sz="1400" spc="-1" strike="noStrike" u="sng">
                  <a:solidFill>
                    <a:srgbClr val="ccccff"/>
                  </a:solidFill>
                  <a:uFillTx/>
                  <a:latin typeface="Comic Sans MS"/>
                  <a:hlinkClick r:id="rId6"/>
                </a:rPr>
                <a:t>/</a:t>
              </a:r>
              <a:r>
                <a:rPr b="0" lang="it-IT" sz="1400" spc="-1" strike="noStrike" u="sng">
                  <a:solidFill>
                    <a:srgbClr val="ccccff"/>
                  </a:solidFill>
                  <a:uFillTx/>
                  <a:latin typeface="Comic Sans MS"/>
                  <a:hlinkClick r:id="rId7"/>
                </a:rPr>
                <a:t>astroem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19320" y="2047680"/>
              <a:ext cx="2524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Comic Sans MS"/>
                </a:rPr>
                <a:t>Una rivista on-line aperta a tutti.</a:t>
              </a: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3200" y="2383560"/>
              <a:ext cx="1440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73920" y="2383560"/>
              <a:ext cx="5045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19320" y="2383560"/>
              <a:ext cx="2524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3200" y="2584440"/>
              <a:ext cx="1440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Comic Sans MS"/>
                </a:rPr>
                <a:t>AstroeMagaz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73920" y="2584440"/>
              <a:ext cx="504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r>
                <a:rPr b="0" lang="it-IT" sz="1400" spc="-1" strike="noStrike" u="sng">
                  <a:solidFill>
                    <a:srgbClr val="ccccff"/>
                  </a:solidFill>
                  <a:uFillTx/>
                  <a:latin typeface="Comic Sans MS"/>
                  <a:hlinkClick r:id="rId8"/>
                </a:rPr>
                <a:t>http://</a:t>
              </a:r>
              <a:r>
                <a:rPr b="0" lang="it-IT" sz="1400" spc="-1" strike="noStrike" u="sng">
                  <a:solidFill>
                    <a:srgbClr val="ccccff"/>
                  </a:solidFill>
                  <a:uFillTx/>
                  <a:latin typeface="Comic Sans MS"/>
                  <a:hlinkClick r:id="rId9"/>
                </a:rPr>
                <a:t>astroemag</a:t>
              </a:r>
              <a:r>
                <a:rPr b="0" lang="it-IT" sz="1400" spc="-1" strike="noStrike" u="sng">
                  <a:solidFill>
                    <a:srgbClr val="ccccff"/>
                  </a:solidFill>
                  <a:uFillTx/>
                  <a:latin typeface="Comic Sans MS"/>
                  <a:hlinkClick r:id="rId10"/>
                </a:rPr>
                <a:t>.</a:t>
              </a:r>
              <a:r>
                <a:rPr b="0" lang="it-IT" sz="1400" spc="-1" strike="noStrike" u="sng">
                  <a:solidFill>
                    <a:srgbClr val="ccccff"/>
                  </a:solidFill>
                  <a:uFillTx/>
                  <a:latin typeface="Comic Sans MS"/>
                  <a:hlinkClick r:id="rId11"/>
                </a:rPr>
                <a:t>freeweb</a:t>
              </a:r>
              <a:r>
                <a:rPr b="0" lang="it-IT" sz="1400" spc="-1" strike="noStrike" u="sng">
                  <a:solidFill>
                    <a:srgbClr val="ccccff"/>
                  </a:solidFill>
                  <a:uFillTx/>
                  <a:latin typeface="Comic Sans MS"/>
                  <a:hlinkClick r:id="rId12"/>
                </a:rPr>
                <a:t>.</a:t>
              </a:r>
              <a:r>
                <a:rPr b="0" lang="it-IT" sz="1400" spc="-1" strike="noStrike" u="sng">
                  <a:solidFill>
                    <a:srgbClr val="ccccff"/>
                  </a:solidFill>
                  <a:uFillTx/>
                  <a:latin typeface="Comic Sans MS"/>
                  <a:hlinkClick r:id="rId13"/>
                </a:rPr>
                <a:t>or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19320" y="2584440"/>
              <a:ext cx="2524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La prima rivista elettronica di astronomia su Interne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200" y="2920320"/>
              <a:ext cx="1440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73920" y="2920320"/>
              <a:ext cx="5045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19320" y="2920320"/>
              <a:ext cx="2524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3200" y="3120840"/>
              <a:ext cx="1440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Astronom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573920" y="3120840"/>
              <a:ext cx="504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r>
                <a:rPr b="0" lang="it-IT" sz="1400" spc="-1" strike="noStrike" u="sng">
                  <a:solidFill>
                    <a:srgbClr val="ccccff"/>
                  </a:solidFill>
                  <a:uFillTx/>
                  <a:latin typeface="Comic Sans MS"/>
                  <a:hlinkClick r:id="rId14"/>
                </a:rPr>
                <a:t>http://web.</a:t>
              </a:r>
              <a:r>
                <a:rPr b="0" lang="it-IT" sz="1400" spc="-1" strike="noStrike" u="sng">
                  <a:solidFill>
                    <a:srgbClr val="ccccff"/>
                  </a:solidFill>
                  <a:uFillTx/>
                  <a:latin typeface="Comic Sans MS"/>
                  <a:hlinkClick r:id="rId15"/>
                </a:rPr>
                <a:t>tiscali</a:t>
              </a:r>
              <a:r>
                <a:rPr b="0" lang="it-IT" sz="1400" spc="-1" strike="noStrike" u="sng">
                  <a:solidFill>
                    <a:srgbClr val="ccccff"/>
                  </a:solidFill>
                  <a:uFillTx/>
                  <a:latin typeface="Comic Sans MS"/>
                  <a:hlinkClick r:id="rId16"/>
                </a:rPr>
                <a:t>.</a:t>
              </a:r>
              <a:r>
                <a:rPr b="0" lang="it-IT" sz="1400" spc="-1" strike="noStrike" u="sng">
                  <a:solidFill>
                    <a:srgbClr val="ccccff"/>
                  </a:solidFill>
                  <a:uFillTx/>
                  <a:latin typeface="Comic Sans MS"/>
                  <a:hlinkClick r:id="rId17"/>
                </a:rPr>
                <a:t>it</a:t>
              </a:r>
              <a:r>
                <a:rPr b="0" lang="it-IT" sz="1400" spc="-1" strike="noStrike" u="sng">
                  <a:solidFill>
                    <a:srgbClr val="ccccff"/>
                  </a:solidFill>
                  <a:uFillTx/>
                  <a:latin typeface="Comic Sans MS"/>
                  <a:hlinkClick r:id="rId18"/>
                </a:rPr>
                <a:t>/</a:t>
              </a:r>
              <a:r>
                <a:rPr b="0" lang="it-IT" sz="1400" spc="-1" strike="noStrike" u="sng">
                  <a:solidFill>
                    <a:srgbClr val="ccccff"/>
                  </a:solidFill>
                  <a:uFillTx/>
                  <a:latin typeface="Comic Sans MS"/>
                  <a:hlinkClick r:id="rId19"/>
                </a:rPr>
                <a:t>astronomiathome</a:t>
              </a:r>
              <a:r>
                <a:rPr b="0" lang="it-IT" sz="1400" spc="-1" strike="noStrike" u="sng">
                  <a:solidFill>
                    <a:srgbClr val="ccccff"/>
                  </a:solidFill>
                  <a:uFillTx/>
                  <a:latin typeface="Comic Sans MS"/>
                  <a:hlinkClick r:id="rId20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19320" y="3120840"/>
              <a:ext cx="2524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Il sito del mensile astronomic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3200" y="3457080"/>
              <a:ext cx="1440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73920" y="3457080"/>
              <a:ext cx="5045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19320" y="3457080"/>
              <a:ext cx="2524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3200" y="3657960"/>
              <a:ext cx="1440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Comic Sans MS"/>
                </a:rPr>
                <a:t>Bollettino Telematico Anta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73920" y="3657960"/>
              <a:ext cx="504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r>
                <a:rPr b="0" lang="it-IT" sz="1400" spc="-1" strike="noStrike" u="sng">
                  <a:solidFill>
                    <a:srgbClr val="ccccff"/>
                  </a:solidFill>
                  <a:uFillTx/>
                  <a:latin typeface="Comic Sans MS"/>
                  <a:hlinkClick r:id="rId21"/>
                </a:rPr>
                <a:t>http://www.</a:t>
              </a:r>
              <a:r>
                <a:rPr b="0" lang="it-IT" sz="1400" spc="-1" strike="noStrike" u="sng">
                  <a:solidFill>
                    <a:srgbClr val="ccccff"/>
                  </a:solidFill>
                  <a:uFillTx/>
                  <a:latin typeface="Comic Sans MS"/>
                  <a:hlinkClick r:id="rId22"/>
                </a:rPr>
                <a:t>geocities</a:t>
              </a:r>
              <a:r>
                <a:rPr b="0" lang="it-IT" sz="1400" spc="-1" strike="noStrike" u="sng">
                  <a:solidFill>
                    <a:srgbClr val="ccccff"/>
                  </a:solidFill>
                  <a:uFillTx/>
                  <a:latin typeface="Comic Sans MS"/>
                  <a:hlinkClick r:id="rId23"/>
                </a:rPr>
                <a:t>.com/</a:t>
              </a:r>
              <a:r>
                <a:rPr b="0" lang="it-IT" sz="1400" spc="-1" strike="noStrike" u="sng">
                  <a:solidFill>
                    <a:srgbClr val="ccccff"/>
                  </a:solidFill>
                  <a:uFillTx/>
                  <a:latin typeface="Comic Sans MS"/>
                  <a:hlinkClick r:id="rId24"/>
                </a:rPr>
                <a:t>CapeCanaveral</a:t>
              </a:r>
              <a:r>
                <a:rPr b="0" lang="it-IT" sz="1400" spc="-1" strike="noStrike" u="sng">
                  <a:solidFill>
                    <a:srgbClr val="ccccff"/>
                  </a:solidFill>
                  <a:uFillTx/>
                  <a:latin typeface="Comic Sans MS"/>
                  <a:hlinkClick r:id="rId25"/>
                </a:rPr>
                <a:t>/</a:t>
              </a:r>
              <a:r>
                <a:rPr b="0" lang="it-IT" sz="1400" spc="-1" strike="noStrike" u="sng">
                  <a:solidFill>
                    <a:srgbClr val="ccccff"/>
                  </a:solidFill>
                  <a:uFillTx/>
                  <a:latin typeface="Comic Sans MS"/>
                  <a:hlinkClick r:id="rId26"/>
                </a:rPr>
                <a:t>Launchpad</a:t>
              </a:r>
              <a:r>
                <a:rPr b="0" lang="it-IT" sz="1400" spc="-1" strike="noStrike" u="sng">
                  <a:solidFill>
                    <a:srgbClr val="ccccff"/>
                  </a:solidFill>
                  <a:uFillTx/>
                  <a:latin typeface="Comic Sans MS"/>
                  <a:hlinkClick r:id="rId27"/>
                </a:rPr>
                <a:t>/2926/</a:t>
              </a:r>
              <a:r>
                <a:rPr b="0" lang="it-IT" sz="1400" spc="-1" strike="noStrike" u="sng">
                  <a:solidFill>
                    <a:srgbClr val="ccccff"/>
                  </a:solidFill>
                  <a:uFillTx/>
                  <a:latin typeface="Comic Sans MS"/>
                  <a:hlinkClick r:id="rId28"/>
                </a:rPr>
                <a:t>netscape</a:t>
              </a:r>
              <a:r>
                <a:rPr b="0" lang="it-IT" sz="1400" spc="-1" strike="noStrike" u="sng">
                  <a:solidFill>
                    <a:srgbClr val="ccccff"/>
                  </a:solidFill>
                  <a:uFillTx/>
                  <a:latin typeface="Comic Sans MS"/>
                  <a:hlinkClick r:id="rId29"/>
                </a:rPr>
                <a:t>.</a:t>
              </a:r>
              <a:r>
                <a:rPr b="0" lang="it-IT" sz="1400" spc="-1" strike="noStrike" u="sng">
                  <a:solidFill>
                    <a:srgbClr val="ccccff"/>
                  </a:solidFill>
                  <a:uFillTx/>
                  <a:latin typeface="Comic Sans MS"/>
                  <a:hlinkClick r:id="rId30"/>
                </a:rPr>
                <a:t>ht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9320" y="3657960"/>
              <a:ext cx="2524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Comic Sans MS"/>
                </a:rPr>
                <a:t>Notizie astronomiche, previsioni metereologich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3200" y="3993840"/>
              <a:ext cx="1440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73920" y="3993840"/>
              <a:ext cx="5045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19320" y="3993840"/>
              <a:ext cx="2524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3200" y="4194360"/>
              <a:ext cx="1440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Comic Sans MS"/>
                </a:rPr>
                <a:t>Coel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73920" y="4194360"/>
              <a:ext cx="504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r>
                <a:rPr b="0" lang="it-IT" sz="14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http://www.coelum.com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19320" y="4194360"/>
              <a:ext cx="2524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Il sito di una delle migliori riviste di Astronomi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3200" y="4530600"/>
              <a:ext cx="1440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73920" y="4530600"/>
              <a:ext cx="5045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19320" y="4530600"/>
              <a:ext cx="2524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3200" y="4731480"/>
              <a:ext cx="1440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Il Cie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73920" y="4731480"/>
              <a:ext cx="504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r>
                <a:rPr b="0" lang="it-IT" sz="14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http://www.mclink.it/com/biroma/ilcielo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9320" y="4731480"/>
              <a:ext cx="2524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In Rete la rivista di Astronom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3200" y="5067360"/>
              <a:ext cx="1440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73920" y="5067360"/>
              <a:ext cx="5045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19320" y="5067360"/>
              <a:ext cx="2524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3200" y="5267880"/>
              <a:ext cx="1440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Navigazione Astronom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73920" y="5267880"/>
              <a:ext cx="504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r>
                <a:rPr b="0" lang="it-IT" sz="14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http://www.navigazioneastronomica.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19320" y="5267880"/>
              <a:ext cx="2524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Comic Sans MS"/>
                </a:rPr>
                <a:t>Una giuda di Claudio Faccio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3200" y="5604120"/>
              <a:ext cx="1440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Ori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73920" y="5604120"/>
              <a:ext cx="504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r>
                <a:rPr b="0" lang="it-IT" sz="14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http://www.orione.it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19320" y="5604120"/>
              <a:ext cx="2524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Comic Sans MS"/>
                </a:rPr>
                <a:t>Versione online del mensile astronom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3200" y="5940000"/>
              <a:ext cx="1440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73920" y="5940000"/>
              <a:ext cx="5045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19320" y="5940000"/>
              <a:ext cx="2524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3200" y="6140880"/>
              <a:ext cx="1440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Comic Sans MS"/>
                </a:rPr>
                <a:t>Polaris Onl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73920" y="6140880"/>
              <a:ext cx="504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r>
                <a:rPr b="0" lang="it-IT" sz="14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http://www.geocities.com/CapeCanaveral/2766/pol01.ht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19320" y="6140880"/>
              <a:ext cx="2524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Comic Sans MS"/>
                </a:rPr>
                <a:t>Giornale on-line dell'Associazione Tuscolana di Astronomi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5880"/>
                  <a:tab algn="l" pos="1031760"/>
                  <a:tab algn="l" pos="1547640"/>
                  <a:tab algn="l" pos="2063880"/>
                  <a:tab algn="l" pos="2579760"/>
                  <a:tab algn="l" pos="3095640"/>
                  <a:tab algn="l" pos="3611520"/>
                  <a:tab algn="l" pos="4127400"/>
                  <a:tab algn="l" pos="4643280"/>
                  <a:tab algn="l" pos="5159520"/>
                  <a:tab algn="l" pos="5675400"/>
                  <a:tab algn="l" pos="6191280"/>
                  <a:tab algn="l" pos="6707160"/>
                  <a:tab algn="l" pos="7223040"/>
                  <a:tab algn="l" pos="7738920"/>
                  <a:tab algn="l" pos="8255160"/>
                  <a:tab algn="l" pos="8771040"/>
                  <a:tab algn="l" pos="9286920"/>
                  <a:tab algn="l" pos="9802800"/>
                  <a:tab algn="l" pos="10318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3" name="" descr=""/>
          <p:cNvPicPr/>
          <p:nvPr/>
        </p:nvPicPr>
        <p:blipFill>
          <a:blip r:embed="rId31"/>
          <a:stretch/>
        </p:blipFill>
        <p:spPr>
          <a:xfrm>
            <a:off x="4483080" y="3392640"/>
            <a:ext cx="177840" cy="71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Rivi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tto il materiale presente all’interno della presentazione è stato recuperato da Internet, all’interno di diversi siti dedicati al mondo dell’Astronom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tte le immagini presenti appartengono ai legittimi proprieta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7T18:33:46Z</dcterms:created>
  <dc:creator>Nicola Ferrini</dc:creator>
  <dc:description/>
  <dc:language>en-US</dc:language>
  <cp:lastModifiedBy>Nicola Ferrini</cp:lastModifiedBy>
  <dcterms:modified xsi:type="dcterms:W3CDTF">2003-06-29T15:45:48Z</dcterms:modified>
  <cp:revision>8</cp:revision>
  <dc:subject/>
  <dc:title>Riviste</dc:title>
</cp:coreProperties>
</file>